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4D22-DCEF-4460-A0E3-038A4EDE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863-261B-4025-8DE1-F1A2BE78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6655-8239-4A22-8273-E2F39185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E21-FD9E-42A2-B26C-0FF34C90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1C4-E7EA-4642-8603-29A94524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1CC-2771-4E28-AF5E-23887E9F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E8D-DFC1-4AFC-90DD-12EC59E2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8EBB-7308-45BE-A99D-6CF3ADDB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9F9-17BD-47AF-8EA8-3BFEF172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F447-6BDB-4060-8CD1-5AD1BB6C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4B6-04D1-4EE0-9382-CB3FB846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F8B-14BB-4DBA-A6C7-50D06E56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656D-2C0D-4FDA-9DD7-C9C3073E7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57680" y="577800"/>
            <a:ext cx="540180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hace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24480" y="3651120"/>
            <a:ext cx="369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hech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24520" y="577800"/>
            <a:ext cx="817416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devolve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66760" y="3651120"/>
            <a:ext cx="516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devuel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41840" y="577800"/>
            <a:ext cx="575856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pone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7560" y="3651120"/>
            <a:ext cx="413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pues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59520" y="577800"/>
            <a:ext cx="412632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freí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35680" y="3651120"/>
            <a:ext cx="259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fri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994480" y="577800"/>
            <a:ext cx="270900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oí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25800" y="3651120"/>
            <a:ext cx="271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o</a:t>
            </a:r>
            <a:r>
              <a:rPr b="0" lang="en-US" sz="9600" spc="-1" strike="noStrike">
                <a:solidFill>
                  <a:srgbClr val="660033"/>
                </a:solidFill>
                <a:latin typeface="바탕"/>
                <a:ea typeface="바탕"/>
              </a:rPr>
              <a:t>í</a:t>
            </a: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d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780280" y="577800"/>
            <a:ext cx="374400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lee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97800" y="3651120"/>
            <a:ext cx="298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le</a:t>
            </a:r>
            <a:r>
              <a:rPr b="0" lang="en-US" sz="9600" spc="-1" strike="noStrike">
                <a:solidFill>
                  <a:srgbClr val="660033"/>
                </a:solidFill>
                <a:latin typeface="바탕"/>
                <a:ea typeface="바탕"/>
              </a:rPr>
              <a:t>í</a:t>
            </a: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d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42320" y="577800"/>
            <a:ext cx="417816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cae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1080" y="3651120"/>
            <a:ext cx="325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ca</a:t>
            </a:r>
            <a:r>
              <a:rPr b="0" lang="en-US" sz="9600" spc="-1" strike="noStrike">
                <a:solidFill>
                  <a:srgbClr val="660033"/>
                </a:solidFill>
                <a:latin typeface="바탕"/>
                <a:ea typeface="바탕"/>
              </a:rPr>
              <a:t>í</a:t>
            </a: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d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94760" y="577800"/>
            <a:ext cx="479700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deci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38880" y="3651120"/>
            <a:ext cx="332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dich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91520" y="577800"/>
            <a:ext cx="720648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rompe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120" y="3651120"/>
            <a:ext cx="259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ro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18160" y="577800"/>
            <a:ext cx="707544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escribi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55920" y="3651120"/>
            <a:ext cx="40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escri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07000" y="577800"/>
            <a:ext cx="583776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volve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68040" y="3651120"/>
            <a:ext cx="373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vuel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45240" y="577800"/>
            <a:ext cx="538056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mori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70480" y="3651120"/>
            <a:ext cx="444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muer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68280" y="577800"/>
            <a:ext cx="572184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cubri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7600" y="3651120"/>
            <a:ext cx="495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cubier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68280" y="577800"/>
            <a:ext cx="465840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abri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4680" y="3651120"/>
            <a:ext cx="429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abier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927520" y="577800"/>
            <a:ext cx="312192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ve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73320" y="3651120"/>
            <a:ext cx="287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vis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17:21Z</dcterms:created>
  <dc:creator>Schaumburg High School</dc:creator>
  <dc:description/>
  <dc:language>en-US</dc:language>
  <cp:lastModifiedBy>Schaumburg High School</cp:lastModifiedBy>
  <dcterms:modified xsi:type="dcterms:W3CDTF">2005-01-28T20:28:20Z</dcterms:modified>
  <cp:revision>3</cp:revision>
  <dc:subject/>
  <dc:title>Slide 1</dc:title>
</cp:coreProperties>
</file>